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7B9A-617C-4671-B4C5-3AF93570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9404-D6F4-4EF5-A2D3-DC18FAC7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51D-4104-470A-9633-C4CE3429D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56A-C63F-4DCE-B5C4-77A8C854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4087-914A-456D-88B3-40F87553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C4D-E1B9-48F6-A97E-5015C148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5808-7BE7-4CBA-A52B-5620B1D8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FAF-F0FB-4167-BC99-6FE0F5DC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6DE4-5E33-4A89-B833-988DBCDB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F4B0-722A-4013-BCBB-33B6EBB3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A25-59A1-4C6B-83E0-C328206F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D8AD-F6A0-4E20-A196-21E6EE29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C231-74CB-479F-AE5A-DA335BA0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арадигмальное развитие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914400"/>
          <a:ext cx="87631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8763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де государ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 все государства входят в цивилизации, многие вообще выпадают из цивилизационного подхода. А судьи кто? «цивилизационный расиз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оссия – либо не цивилизация, либо особая русская, православная, евразийская цивилиз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уппировка всех цивилизаций на Запад-Восток, теоретическая конфронтация ведущая к политическому противостоя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минанта – религия и культура, а где экономи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тегории – абстрактны, не соотносятся с «прозой» жизни и конкретной реальностью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760" indent="-458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то такое культура, как в этих терминах можно работать с конкретной реальностью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фекты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вилизационного подх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Прогрессорский подход (модернизационный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2240" y="1447920"/>
          <a:ext cx="8758080" cy="518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447920"/>
                    <a:ext cx="87580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ституционализм – основа  новой парадигм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0880" y="1335240"/>
            <a:ext cx="8305920" cy="535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Изменение исходных посылок неоклассики под влиянием  институционализм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28600" y="1467000"/>
          <a:ext cx="8610480" cy="452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67000"/>
                    <a:ext cx="861048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льный институционализм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т  продуктов и услуг осуществляется отнюдь не только посредством рыночной системы и, тем  более,  не  только  через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у  саморегулирующихся  рынк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Продукты  и  услуги  также  циркулируют через системы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распределе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ализуемые той или иной формой Центра  (в  современный  период  его  роль  выполняет  Государство)  в  соответствии  с  принципом  централизации,  а  также  посредством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ципрокност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 на  основе  принципа  симметрии.  Они  всегда  имеют  специфический  характер –  в  зависимости  от  конкретных  исторических,  культурных  и  политических  контекстов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новные понятия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вити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учного зна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не простое накопление фактов и теорий, а последовательность кардинальных изменений облика науки через смену парадиг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дигма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изнанные всеми метатеория, которая в течение определенного времени дают научному сообществу модель постановки проблем и их решен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ормальная нау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период господства какой-либо парадигмы,  накопление научных результатов, найденных при решении задач по стандартным методика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аучная шко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научное сообщество,  деятельность которого строится на основе одинаковых парадигм, опираются на одни и те же правила и стандарты научной практ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сновные понятия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изис в наук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озникает, когда ученые сталкиваются с сильными и продолжительны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номалия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характерной чертой которых является упорное сопротивление объяснению их существующими парадигма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ена парадигм вместе с дискуссиями, неизменно сопровождающими их,  представляют собо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учные револю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период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еинтерпре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сновных научных результатов, этап выработки новых стратегий научного исследова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куренция старой и новой парадиг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295280"/>
            <a:ext cx="8458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зные парадигмы несоизмеримы, т.к. сама по себе операция сопоставления возможна только в рамках одной определенной парадиг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следователи используют свою собственную парадигму для аргументации в защиту этой же парадигмы. Поэтому логика в этом споре бессильн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вая парадигма содержит претензии на решение тех проблем, которые вызвали кризисы в науке - аномал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вая парадигма предсказывает существование явлений, о которых совершенно не подозревали, пока господствовала старая парадигм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ЭСШ этапы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-457200" y="838080"/>
          <a:ext cx="98298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838080"/>
                    <a:ext cx="98298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осхождение по парадигмальн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лестниц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28600" y="-228600"/>
          <a:ext cx="105919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-228600"/>
                    <a:ext cx="10591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 flipH="1">
            <a:off x="533520" y="1752480"/>
            <a:ext cx="220968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3265560" cy="243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143000"/>
                    <a:ext cx="326556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ходы к объяснению траектории развития Росс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52388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радигма двух путей “Запад – Восток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ационный подхо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ивилизацион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дернизацион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Парадигма двух путей институционального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Социально-экономические характерист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 – развитый, урбанизированный, индустриальный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ток – отсталый, сельский, аграрны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 – рыночная экономика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ток – редистрибутивная экономика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пада – классовая дифференциаци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Востока – клановые, этнические отношения; коммунитарного типа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ад – гражданский, демократический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сток - авторитарный, деспотиче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Формационный подх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ационные этапы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рвобытнобщинный стр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бовлад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еод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питал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униз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а пути развития обще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тичный способ произв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зиатский способ производс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9:20:54Z</dcterms:created>
  <dc:creator>User</dc:creator>
  <dc:description/>
  <dc:language>en-US</dc:language>
  <cp:lastModifiedBy>User</cp:lastModifiedBy>
  <cp:lastPrinted>2007-09-30T18:09:58Z</cp:lastPrinted>
  <dcterms:modified xsi:type="dcterms:W3CDTF">2010-09-15T10:36:59Z</dcterms:modified>
  <cp:revision>65</cp:revision>
  <dc:subject/>
  <dc:title>Заголовок слайда отсутствует</dc:title>
</cp:coreProperties>
</file>